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8.wmf" ContentType="image/x-wmf"/>
  <Override PartName="/ppt/media/image30.png" ContentType="image/png"/>
  <Override PartName="/ppt/media/image28.png" ContentType="image/png"/>
  <Override PartName="/ppt/media/image39.wmf" ContentType="image/x-wmf"/>
  <Override PartName="/ppt/media/image8.jpeg" ContentType="image/jpeg"/>
  <Override PartName="/ppt/media/image41.wmf" ContentType="image/x-wmf"/>
  <Override PartName="/ppt/media/image36.jpeg" ContentType="image/jpeg"/>
  <Override PartName="/ppt/media/image43.wmf" ContentType="image/x-wmf"/>
  <Override PartName="/ppt/media/image13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40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0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C52-2CBF-4D3C-985C-DAB1C4FFB513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ftr" idx="21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 type="sldNum" idx="22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23A2-0845-4F02-BF3A-704E23673DA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F64B-0D8F-4D15-9C00-F86DB54C9317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9FF6-0C43-49CD-A842-5A91AB6CBB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43F-16C5-45FB-9825-56EA9BDF560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DFB-E373-4F71-B5EE-B9FCD3E5714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527-5B57-40A3-B5FD-CAA4061CFF26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85DA-D2D2-46C6-B42C-415092A066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9BF5-DC90-472E-9670-0955437ECE12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FEE-DCA1-4B0E-9C55-BCB7DE82321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65E-35AF-4025-8924-BEB82793055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74A-7A7F-4B2B-B9E6-D4A17BCF95A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E29-2A99-414D-9625-E720B19BDC6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ED57-4C31-4138-B1EF-C484D213FB5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15FA-7941-4FB5-BEEE-5B518CCBD92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6BB3-8EBB-407C-8A49-6956EDB37B71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83F5-8EB2-4834-85B9-E7C0AE7959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35E3-8CA8-418D-BF29-976DE545964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8CBC-BD4E-43F0-B5D2-79EF0FF2F3E0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CFF-5FF6-4652-B619-35A6BEFE6D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AEA0-43C0-47AB-991C-26199B9037BC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3704-9924-4A6B-B26E-9C497B0BC2E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DED8-2CF6-4D38-B772-1C9BEAF4E89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9120-1530-47F3-BBAF-5FB5AD85BEC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8527-377F-4998-B39B-9FAE1B393C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023E-B05B-49C2-9F74-A408DEF7945E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D67-CDDE-4DAC-BD8C-31B6599486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4228-7591-4B37-8139-ECFBB16C90FF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6877-50B8-4F35-A664-6FE60F2E048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1DD-E757-4D71-95E4-B65DBC23F53A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173C-91EC-438E-8013-EDC928046EB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2A1-FF2A-4B9F-A921-E71E5B63B967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1CC-7DCF-43DC-8EA4-98B0883E452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8C0-AB95-4655-919F-844132EE3BA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88B6-7329-4B39-A3DD-AA735EF1089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4C5-9026-4061-8E16-DFADD3A2C275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922B-90A6-4D57-9266-72447ABB6B8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67A-F5ED-4E56-8E21-717165BE4EC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984A-7D04-405D-9493-4FE31A78E78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3903840" y="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737-F959-4258-99FF-973521C4EA05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C3E3-B743-43C0-9F92-5F3D9443A34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955E-4900-4812-AD34-52C5D302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05B3-30DD-483D-B28D-0288229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666D2-4E8B-43FC-8649-98375EF0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3380-C7AB-465C-968D-27B6ED7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B183B-A866-4419-9D38-ECEEE7E8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C7B13-2DFA-469C-94D9-119D9B3E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15B3-1FFB-4AC2-B257-24962A6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86A51-4C35-4252-A025-966A2F13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03ACB-39D1-4244-AFF4-0CB9326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7E369-7707-49D3-AD72-60F32E4E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5D13-7343-4BBA-A486-B1BE9C24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C5BF-0425-4DA2-9EA8-FF64112A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9040" y="3746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06080" y="138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904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7148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53920" y="138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904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47148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253920" y="3746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4" name="Freeform 9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05" name="Right Triangle 10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Right Triangle 10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08" name="Straight Connector 15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409" name="Chevron 16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410" name="Chevron 16" descr=""/>
            <p:cNvPicPr/>
            <p:nvPr/>
          </p:nvPicPr>
          <p:blipFill>
            <a:blip r:embed="rId5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412" name="Chevron 17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413" name="Chevron 17" descr=""/>
            <p:cNvPicPr/>
            <p:nvPr/>
          </p:nvPicPr>
          <p:blipFill>
            <a:blip r:embed="rId6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5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4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46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0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0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06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4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5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55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0D7-B15C-44CE-B821-99FD39D321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7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58106"/>
              </a:gs>
              <a:gs pos="50000">
                <a:srgbClr val="6ac654"/>
              </a:gs>
              <a:gs pos="100000">
                <a:srgbClr val="25810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6" name="Freeform 10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9cfa2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  <p:grpSp>
          <p:nvGrpSpPr>
            <p:cNvPr id="48" name="Freeform 16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9" name="Freeform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3300"/>
                  </a:solidFill>
                  <a:latin typeface="Tahoma"/>
                </a:endParaRPr>
              </a:p>
            </p:txBody>
          </p:sp>
        </p:grpSp>
        <p:pic>
          <p:nvPicPr>
            <p:cNvPr id="51" name="Straight Connector 17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92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9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95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165240" y="5815080"/>
            <a:ext cx="2220840" cy="1042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3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3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40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41" name="Chevron 7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142" name="Chevron 7" descr=""/>
            <p:cNvPicPr/>
            <p:nvPr/>
          </p:nvPicPr>
          <p:blipFill>
            <a:blip r:embed="rId4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144" name="Chevron 9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145" name="Chevron 9" descr=""/>
            <p:cNvPicPr/>
            <p:nvPr/>
          </p:nvPicPr>
          <p:blipFill>
            <a:blip r:embed="rId5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86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87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18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190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72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273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27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276" name="Straight Connector 14" descr=""/>
          <p:cNvPicPr/>
          <p:nvPr/>
        </p:nvPicPr>
        <p:blipFill>
          <a:blip r:embed="rId4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2"/>
          <p:cNvSpPr/>
          <p:nvPr/>
        </p:nvSpPr>
        <p:spPr>
          <a:xfrm flipH="1">
            <a:off x="3811680" y="5761080"/>
            <a:ext cx="5718240" cy="1096920"/>
          </a:xfrm>
          <a:custGeom>
            <a:avLst/>
            <a:gdLst>
              <a:gd name="textAreaLeft" fmla="*/ 0 w 5718240"/>
              <a:gd name="textAreaRight" fmla="*/ 5718240 w 5718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9cf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8" name="Freeform 11"/>
          <p:cNvSpPr/>
          <p:nvPr/>
        </p:nvSpPr>
        <p:spPr>
          <a:xfrm flipH="1">
            <a:off x="4992120" y="5861160"/>
            <a:ext cx="4151160" cy="996840"/>
          </a:xfrm>
          <a:custGeom>
            <a:avLst/>
            <a:gdLst>
              <a:gd name="textAreaLeft" fmla="*/ -360 w 4151160"/>
              <a:gd name="textAreaRight" fmla="*/ 4151160 w 415116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319" name="Right Triangle 13"/>
          <p:cNvGrpSpPr/>
          <p:nvPr/>
        </p:nvGrpSpPr>
        <p:grpSpPr>
          <a:xfrm>
            <a:off x="5791320" y="5846760"/>
            <a:ext cx="3359160" cy="1017720"/>
            <a:chOff x="5791320" y="5846760"/>
            <a:chExt cx="3359160" cy="1017720"/>
          </a:xfrm>
        </p:grpSpPr>
        <p:pic>
          <p:nvPicPr>
            <p:cNvPr id="3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5791320" y="5846760"/>
              <a:ext cx="3359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191360" y="6437160"/>
              <a:ext cx="1673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322" name="Straight Connector 14" descr=""/>
          <p:cNvPicPr/>
          <p:nvPr/>
        </p:nvPicPr>
        <p:blipFill>
          <a:blip r:embed="rId3"/>
          <a:stretch/>
        </p:blipFill>
        <p:spPr>
          <a:xfrm>
            <a:off x="3906720" y="5748480"/>
            <a:ext cx="5627880" cy="1122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904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54a83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54a83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b0df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AutoShape 4"/>
          <p:cNvSpPr/>
          <p:nvPr/>
        </p:nvSpPr>
        <p:spPr>
          <a:xfrm>
            <a:off x="762120" y="225360"/>
            <a:ext cx="7734240" cy="5635800"/>
          </a:xfrm>
          <a:prstGeom prst="flowChartAlternateProcess">
            <a:avLst/>
          </a:prstGeom>
          <a:solidFill>
            <a:srgbClr val="54a838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rogramme 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troduc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nary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o am I?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ASA Challeng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idge over the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vartå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&amp;D Challeng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roup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view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nary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unch &amp; Depar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2" descr=""/>
          <p:cNvPicPr/>
          <p:nvPr/>
        </p:nvPicPr>
        <p:blipFill>
          <a:blip r:embed="rId1"/>
          <a:stretch/>
        </p:blipFill>
        <p:spPr>
          <a:xfrm>
            <a:off x="182520" y="237960"/>
            <a:ext cx="8620200" cy="148140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6"/>
          <p:cNvSpPr/>
          <p:nvPr/>
        </p:nvSpPr>
        <p:spPr>
          <a:xfrm>
            <a:off x="40968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eam building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46512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ell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375120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3513240" y="520056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cision m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2" name="AutoShape 15"/>
          <p:cNvSpPr/>
          <p:nvPr/>
        </p:nvSpPr>
        <p:spPr>
          <a:xfrm>
            <a:off x="51768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3" name="AutoShape 16"/>
          <p:cNvSpPr/>
          <p:nvPr/>
        </p:nvSpPr>
        <p:spPr>
          <a:xfrm>
            <a:off x="38592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 T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4" name="AutoShape 17"/>
          <p:cNvSpPr/>
          <p:nvPr/>
        </p:nvSpPr>
        <p:spPr>
          <a:xfrm>
            <a:off x="243000" y="51847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5" name="AutoShape 19"/>
          <p:cNvSpPr/>
          <p:nvPr/>
        </p:nvSpPr>
        <p:spPr>
          <a:xfrm>
            <a:off x="4029120" y="183348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ahoma"/>
              </a:rPr>
              <a:t>Personal &amp; Social awareness</a:t>
            </a:r>
            <a:endParaRPr b="0" lang="en-US" sz="17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6" name="AutoShape 20"/>
          <p:cNvSpPr/>
          <p:nvPr/>
        </p:nvSpPr>
        <p:spPr>
          <a:xfrm>
            <a:off x="614520" y="185112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ste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7" name="AutoShape 21"/>
          <p:cNvSpPr/>
          <p:nvPr/>
        </p:nvSpPr>
        <p:spPr>
          <a:xfrm>
            <a:off x="382572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8" name="AutoShape 22"/>
          <p:cNvSpPr/>
          <p:nvPr/>
        </p:nvSpPr>
        <p:spPr>
          <a:xfrm>
            <a:off x="381636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managemen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59" name="AutoShape 24"/>
          <p:cNvSpPr/>
          <p:nvPr/>
        </p:nvSpPr>
        <p:spPr>
          <a:xfrm>
            <a:off x="384660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king Judgement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C:\Documents and Settings\Andy Robertson\Local Settings\Temporary Internet Files\Content.IE5\OKPC7OWA\MPj03900830000[1].jpg"/>
          <p:cNvPicPr/>
          <p:nvPr/>
        </p:nvPicPr>
        <p:blipFill>
          <a:blip r:embed="rId1"/>
          <a:stretch/>
        </p:blipFill>
        <p:spPr>
          <a:xfrm>
            <a:off x="0" y="-593640"/>
            <a:ext cx="9144000" cy="7748640"/>
          </a:xfrm>
          <a:prstGeom prst="rect">
            <a:avLst/>
          </a:prstGeom>
          <a:ln w="0">
            <a:noFill/>
          </a:ln>
        </p:spPr>
      </p:pic>
      <p:pic>
        <p:nvPicPr>
          <p:cNvPr id="661" name="Title 7" descr=""/>
          <p:cNvPicPr/>
          <p:nvPr/>
        </p:nvPicPr>
        <p:blipFill>
          <a:blip r:embed="rId2"/>
          <a:stretch/>
        </p:blipFill>
        <p:spPr>
          <a:xfrm>
            <a:off x="-255600" y="5284800"/>
            <a:ext cx="6143760" cy="13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4" descr="C:\Documents and Settings\Andy Robertson\My Documents\My Pictures\Microsoft Clip Organizer\j02892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3" name="Title 7" descr=""/>
          <p:cNvPicPr/>
          <p:nvPr/>
        </p:nvPicPr>
        <p:blipFill>
          <a:blip r:embed="rId2"/>
          <a:stretch/>
        </p:blipFill>
        <p:spPr>
          <a:xfrm>
            <a:off x="-165240" y="371520"/>
            <a:ext cx="768852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4"/>
          <p:cNvSpPr/>
          <p:nvPr/>
        </p:nvSpPr>
        <p:spPr>
          <a:xfrm>
            <a:off x="982800" y="1728720"/>
            <a:ext cx="5327640" cy="2297160"/>
          </a:xfrm>
          <a:prstGeom prst="downArrowCallout">
            <a:avLst>
              <a:gd name="adj1" fmla="val 61701"/>
              <a:gd name="adj2" fmla="val 30848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what is required to resolve the problem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1420920" y="21686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6" name="AutoShape 6"/>
          <p:cNvSpPr/>
          <p:nvPr/>
        </p:nvSpPr>
        <p:spPr>
          <a:xfrm>
            <a:off x="1763640" y="285264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67" name="AutoShape 7"/>
          <p:cNvSpPr/>
          <p:nvPr/>
        </p:nvSpPr>
        <p:spPr>
          <a:xfrm>
            <a:off x="2168640" y="3552840"/>
            <a:ext cx="5329080" cy="2484360"/>
          </a:xfrm>
          <a:prstGeom prst="downArrowCallout">
            <a:avLst>
              <a:gd name="adj1" fmla="val 53631"/>
              <a:gd name="adj2" fmla="val 26813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68" name="Picture 15" descr="j0311786"/>
          <p:cNvPicPr/>
          <p:nvPr/>
        </p:nvPicPr>
        <p:blipFill>
          <a:blip r:embed="rId1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9" descr="j0311778"/>
          <p:cNvPicPr/>
          <p:nvPr/>
        </p:nvPicPr>
        <p:blipFill>
          <a:blip r:embed="rId2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0" descr="j0311776"/>
          <p:cNvPicPr/>
          <p:nvPr/>
        </p:nvPicPr>
        <p:blipFill>
          <a:blip r:embed="rId3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2" descr="j0311780"/>
          <p:cNvPicPr/>
          <p:nvPr/>
        </p:nvPicPr>
        <p:blipFill>
          <a:blip r:embed="rId4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17"/>
          <p:cNvSpPr/>
          <p:nvPr/>
        </p:nvSpPr>
        <p:spPr>
          <a:xfrm>
            <a:off x="200160" y="365040"/>
            <a:ext cx="77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How you should do it: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5" descr="severn2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j0383848"/>
          <p:cNvPicPr/>
          <p:nvPr/>
        </p:nvPicPr>
        <p:blipFill>
          <a:blip r:embed="rId2"/>
          <a:stretch/>
        </p:blipFill>
        <p:spPr>
          <a:xfrm>
            <a:off x="0" y="0"/>
            <a:ext cx="5400720" cy="26510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8"/>
          <p:cNvSpPr/>
          <p:nvPr/>
        </p:nvSpPr>
        <p:spPr>
          <a:xfrm>
            <a:off x="1042920" y="3033720"/>
            <a:ext cx="6703920" cy="58140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Bridge Over the River </a:t>
            </a: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Svartå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mph" presetID="8">
                                  <p:stCondLst>
                                    <p:cond delay="5000"/>
                                  </p:stCondLst>
                                  <p:childTnLst>
                                    <p:animRot by="5400000">
                                      <p:cBhvr>
                                        <p:cTn id="296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2.5E-006 1.01018 E">
                                      <p:cBhvr>
                                        <p:cTn id="299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4"/>
          <p:cNvSpPr/>
          <p:nvPr/>
        </p:nvSpPr>
        <p:spPr>
          <a:xfrm>
            <a:off x="982800" y="1728720"/>
            <a:ext cx="5327640" cy="2297160"/>
          </a:xfrm>
          <a:prstGeom prst="downArrowCallout">
            <a:avLst>
              <a:gd name="adj1" fmla="val 61701"/>
              <a:gd name="adj2" fmla="val 30848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what is required to resolve the problem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1420920" y="21686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1763640" y="285264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2168640" y="3552840"/>
            <a:ext cx="5329080" cy="2484360"/>
          </a:xfrm>
          <a:prstGeom prst="downArrowCallout">
            <a:avLst>
              <a:gd name="adj1" fmla="val 53631"/>
              <a:gd name="adj2" fmla="val 26813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80" name="Picture 15" descr="j0311786"/>
          <p:cNvPicPr/>
          <p:nvPr/>
        </p:nvPicPr>
        <p:blipFill>
          <a:blip r:embed="rId1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9" descr="j0311778"/>
          <p:cNvPicPr/>
          <p:nvPr/>
        </p:nvPicPr>
        <p:blipFill>
          <a:blip r:embed="rId2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0" descr="j0311776"/>
          <p:cNvPicPr/>
          <p:nvPr/>
        </p:nvPicPr>
        <p:blipFill>
          <a:blip r:embed="rId3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2" descr="j0311780"/>
          <p:cNvPicPr/>
          <p:nvPr/>
        </p:nvPicPr>
        <p:blipFill>
          <a:blip r:embed="rId4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7"/>
          <p:cNvSpPr/>
          <p:nvPr/>
        </p:nvSpPr>
        <p:spPr>
          <a:xfrm>
            <a:off x="200160" y="365040"/>
            <a:ext cx="77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How you should do it: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trainers"/>
          <p:cNvPicPr/>
          <p:nvPr/>
        </p:nvPicPr>
        <p:blipFill>
          <a:blip r:embed="rId1"/>
          <a:stretch/>
        </p:blipFill>
        <p:spPr>
          <a:xfrm>
            <a:off x="5226120" y="4122720"/>
            <a:ext cx="3917880" cy="2735280"/>
          </a:xfrm>
          <a:prstGeom prst="rect">
            <a:avLst/>
          </a:prstGeom>
          <a:ln w="0">
            <a:noFill/>
          </a:ln>
        </p:spPr>
      </p:pic>
      <p:sp>
        <p:nvSpPr>
          <p:cNvPr id="686" name="Oval 7"/>
          <p:cNvSpPr/>
          <p:nvPr/>
        </p:nvSpPr>
        <p:spPr>
          <a:xfrm>
            <a:off x="6416640" y="1382760"/>
            <a:ext cx="2524320" cy="2227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FOO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FIRS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87" name="Oval 7"/>
          <p:cNvSpPr/>
          <p:nvPr/>
        </p:nvSpPr>
        <p:spPr>
          <a:xfrm>
            <a:off x="3576600" y="1300320"/>
            <a:ext cx="2287800" cy="23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idgets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nd Apps 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Galore!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88" name="Picture 6" descr="IMG_3674.JPG"/>
          <p:cNvPicPr/>
          <p:nvPr/>
        </p:nvPicPr>
        <p:blipFill>
          <a:blip r:embed="rId2"/>
          <a:stretch/>
        </p:blipFill>
        <p:spPr>
          <a:xfrm>
            <a:off x="4427640" y="4043520"/>
            <a:ext cx="1758960" cy="2814480"/>
          </a:xfrm>
          <a:prstGeom prst="rect">
            <a:avLst/>
          </a:prstGeom>
          <a:ln w="0">
            <a:noFill/>
          </a:ln>
        </p:spPr>
      </p:pic>
      <p:sp>
        <p:nvSpPr>
          <p:cNvPr id="689" name="Oval 7"/>
          <p:cNvSpPr/>
          <p:nvPr/>
        </p:nvSpPr>
        <p:spPr>
          <a:xfrm>
            <a:off x="192240" y="1155600"/>
            <a:ext cx="2752560" cy="2433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Researc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&amp;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Development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90" name="Content Placeholder 8" descr="CIMG0174.JPG"/>
          <p:cNvPicPr/>
          <p:nvPr/>
        </p:nvPicPr>
        <p:blipFill>
          <a:blip r:embed="rId3"/>
          <a:stretch/>
        </p:blipFill>
        <p:spPr>
          <a:xfrm>
            <a:off x="-798480" y="4043520"/>
            <a:ext cx="3986280" cy="281448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691" name="Picture 4" descr="IMG_3679.JPG"/>
          <p:cNvPicPr/>
          <p:nvPr/>
        </p:nvPicPr>
        <p:blipFill>
          <a:blip r:embed="rId4"/>
          <a:stretch/>
        </p:blipFill>
        <p:spPr>
          <a:xfrm>
            <a:off x="2762280" y="4010040"/>
            <a:ext cx="172872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0.33334 L 2.22222E-006 4.81481E-006 E">
                                      <p:cBhvr>
                                        <p:cTn id="424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4"/>
          <p:cNvSpPr/>
          <p:nvPr/>
        </p:nvSpPr>
        <p:spPr>
          <a:xfrm>
            <a:off x="982800" y="1728720"/>
            <a:ext cx="5327640" cy="2297160"/>
          </a:xfrm>
          <a:prstGeom prst="downArrowCallout">
            <a:avLst>
              <a:gd name="adj1" fmla="val 61701"/>
              <a:gd name="adj2" fmla="val 30848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Tackling a problem</a:t>
            </a:r>
            <a:r>
              <a:rPr b="0" lang="en-GB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generate ideas through discussion to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reach a common understanding of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Tahoma"/>
              </a:rPr>
              <a:t>what is required to resolve the problem</a:t>
            </a:r>
            <a:r>
              <a:rPr b="0" i="1" lang="en-GB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1420920" y="2168640"/>
            <a:ext cx="5292720" cy="2158920"/>
          </a:xfrm>
          <a:prstGeom prst="downArrowCallout">
            <a:avLst>
              <a:gd name="adj1" fmla="val 61294"/>
              <a:gd name="adj2" fmla="val 30644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Planning the project or activit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breaking down tasks, organising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sources, deploying team member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allocating responsibilitie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4" name="AutoShape 6"/>
          <p:cNvSpPr/>
          <p:nvPr/>
        </p:nvSpPr>
        <p:spPr>
          <a:xfrm>
            <a:off x="1763640" y="2852640"/>
            <a:ext cx="5329440" cy="2158920"/>
          </a:xfrm>
          <a:prstGeom prst="downArrowCallout">
            <a:avLst>
              <a:gd name="adj1" fmla="val 61720"/>
              <a:gd name="adj2" fmla="val 30857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Implementing the pla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solving problems, monitoring progress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95" name="AutoShape 7"/>
          <p:cNvSpPr/>
          <p:nvPr/>
        </p:nvSpPr>
        <p:spPr>
          <a:xfrm>
            <a:off x="2168640" y="3552840"/>
            <a:ext cx="5329080" cy="2484360"/>
          </a:xfrm>
          <a:prstGeom prst="downArrowCallout">
            <a:avLst>
              <a:gd name="adj1" fmla="val 53631"/>
              <a:gd name="adj2" fmla="val 26813"/>
              <a:gd name="adj3" fmla="val 16667"/>
              <a:gd name="adj4" fmla="val 8333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Evaluating the proces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viewing activities and final outcomes,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reflecting on lessons learned and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ssessing the skills, attitudes, qualities 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ahoma"/>
              </a:rPr>
              <a:t>and understanding gained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696" name="Picture 15" descr="j0311786"/>
          <p:cNvPicPr/>
          <p:nvPr/>
        </p:nvPicPr>
        <p:blipFill>
          <a:blip r:embed="rId1"/>
          <a:stretch/>
        </p:blipFill>
        <p:spPr>
          <a:xfrm>
            <a:off x="7920000" y="4257720"/>
            <a:ext cx="933480" cy="803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9" descr="j0311778"/>
          <p:cNvPicPr/>
          <p:nvPr/>
        </p:nvPicPr>
        <p:blipFill>
          <a:blip r:embed="rId2"/>
          <a:stretch/>
        </p:blipFill>
        <p:spPr>
          <a:xfrm>
            <a:off x="7704000" y="3033720"/>
            <a:ext cx="719280" cy="927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0" descr="j0311776"/>
          <p:cNvPicPr/>
          <p:nvPr/>
        </p:nvPicPr>
        <p:blipFill>
          <a:blip r:embed="rId3"/>
          <a:stretch/>
        </p:blipFill>
        <p:spPr>
          <a:xfrm>
            <a:off x="7201080" y="2276640"/>
            <a:ext cx="915840" cy="741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22" descr="j0311780"/>
          <p:cNvPicPr/>
          <p:nvPr/>
        </p:nvPicPr>
        <p:blipFill>
          <a:blip r:embed="rId4"/>
          <a:stretch/>
        </p:blipFill>
        <p:spPr>
          <a:xfrm>
            <a:off x="6659640" y="1341360"/>
            <a:ext cx="689040" cy="95724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17"/>
          <p:cNvSpPr/>
          <p:nvPr/>
        </p:nvSpPr>
        <p:spPr>
          <a:xfrm>
            <a:off x="200160" y="365040"/>
            <a:ext cx="77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How you should do it: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Rectangle 2" descr=""/>
          <p:cNvPicPr/>
          <p:nvPr/>
        </p:nvPicPr>
        <p:blipFill>
          <a:blip r:embed="rId1"/>
          <a:stretch/>
        </p:blipFill>
        <p:spPr>
          <a:xfrm>
            <a:off x="128520" y="360360"/>
            <a:ext cx="8674200" cy="135900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6"/>
          <p:cNvSpPr/>
          <p:nvPr/>
        </p:nvSpPr>
        <p:spPr>
          <a:xfrm>
            <a:off x="40968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eam building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3" name="AutoShape 8"/>
          <p:cNvSpPr/>
          <p:nvPr/>
        </p:nvSpPr>
        <p:spPr>
          <a:xfrm>
            <a:off x="46512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ell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4" name="AutoShape 9"/>
          <p:cNvSpPr/>
          <p:nvPr/>
        </p:nvSpPr>
        <p:spPr>
          <a:xfrm>
            <a:off x="375120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lan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3513240" y="520056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ecision m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6" name="AutoShape 15"/>
          <p:cNvSpPr/>
          <p:nvPr/>
        </p:nvSpPr>
        <p:spPr>
          <a:xfrm>
            <a:off x="51768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gotiatio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7" name="AutoShape 16"/>
          <p:cNvSpPr/>
          <p:nvPr/>
        </p:nvSpPr>
        <p:spPr>
          <a:xfrm>
            <a:off x="385920" y="455148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 Tak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8" name="AutoShape 17"/>
          <p:cNvSpPr/>
          <p:nvPr/>
        </p:nvSpPr>
        <p:spPr>
          <a:xfrm>
            <a:off x="243000" y="51847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earch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09" name="AutoShape 19"/>
          <p:cNvSpPr/>
          <p:nvPr/>
        </p:nvSpPr>
        <p:spPr>
          <a:xfrm>
            <a:off x="4029120" y="183348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ahoma"/>
              </a:rPr>
              <a:t>Personal &amp; Social awareness</a:t>
            </a:r>
            <a:endParaRPr b="0" lang="en-US" sz="17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0" name="AutoShape 20"/>
          <p:cNvSpPr/>
          <p:nvPr/>
        </p:nvSpPr>
        <p:spPr>
          <a:xfrm>
            <a:off x="614520" y="1851120"/>
            <a:ext cx="4537080" cy="684000"/>
          </a:xfrm>
          <a:prstGeom prst="parallelogram">
            <a:avLst>
              <a:gd name="adj" fmla="val 165829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istening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1" name="AutoShape 21"/>
          <p:cNvSpPr/>
          <p:nvPr/>
        </p:nvSpPr>
        <p:spPr>
          <a:xfrm>
            <a:off x="3825720" y="386712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2" name="AutoShape 22"/>
          <p:cNvSpPr/>
          <p:nvPr/>
        </p:nvSpPr>
        <p:spPr>
          <a:xfrm>
            <a:off x="3816360" y="320040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isk managemen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3" name="AutoShape 24"/>
          <p:cNvSpPr/>
          <p:nvPr/>
        </p:nvSpPr>
        <p:spPr>
          <a:xfrm>
            <a:off x="3846600" y="2516040"/>
            <a:ext cx="4537080" cy="684360"/>
          </a:xfrm>
          <a:prstGeom prst="parallelogram">
            <a:avLst>
              <a:gd name="adj" fmla="val 165742"/>
            </a:avLst>
          </a:prstGeom>
          <a:solidFill>
            <a:srgbClr val="54a8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king Judgement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90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0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2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8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Rectangle 6"/>
          <p:cNvGrpSpPr/>
          <p:nvPr/>
        </p:nvGrpSpPr>
        <p:grpSpPr>
          <a:xfrm>
            <a:off x="1414440" y="2919240"/>
            <a:ext cx="6224760" cy="1092240"/>
            <a:chOff x="1414440" y="2919240"/>
            <a:chExt cx="6224760" cy="1092240"/>
          </a:xfrm>
        </p:grpSpPr>
        <p:pic>
          <p:nvPicPr>
            <p:cNvPr id="603" name="Rectangle 6" descr=""/>
            <p:cNvPicPr/>
            <p:nvPr/>
          </p:nvPicPr>
          <p:blipFill>
            <a:blip r:embed="rId1"/>
            <a:stretch/>
          </p:blipFill>
          <p:spPr>
            <a:xfrm>
              <a:off x="1414440" y="2919240"/>
              <a:ext cx="62247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442880" y="2951280"/>
              <a:ext cx="616932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Facilitators</a:t>
              </a:r>
              <a:endParaRPr b="0" lang="en-US" sz="32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05" name="Rectangle 8"/>
          <p:cNvGrpSpPr/>
          <p:nvPr/>
        </p:nvGrpSpPr>
        <p:grpSpPr>
          <a:xfrm>
            <a:off x="1420920" y="4127400"/>
            <a:ext cx="6218280" cy="1150920"/>
            <a:chOff x="1420920" y="4127400"/>
            <a:chExt cx="6218280" cy="1150920"/>
          </a:xfrm>
        </p:grpSpPr>
        <p:pic>
          <p:nvPicPr>
            <p:cNvPr id="606" name="Rectangle 8" descr=""/>
            <p:cNvPicPr/>
            <p:nvPr/>
          </p:nvPicPr>
          <p:blipFill>
            <a:blip r:embed="rId2"/>
            <a:stretch/>
          </p:blipFill>
          <p:spPr>
            <a:xfrm>
              <a:off x="1420920" y="4127400"/>
              <a:ext cx="6218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454040" y="4160880"/>
              <a:ext cx="615816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t Ilians 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School Team</a:t>
              </a:r>
              <a:endParaRPr b="0" lang="en-US" sz="32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08" name="Rectangle 9"/>
          <p:cNvGrpSpPr/>
          <p:nvPr/>
        </p:nvGrpSpPr>
        <p:grpSpPr>
          <a:xfrm>
            <a:off x="1401840" y="1749600"/>
            <a:ext cx="6199200" cy="1090440"/>
            <a:chOff x="1401840" y="1749600"/>
            <a:chExt cx="6199200" cy="1090440"/>
          </a:xfrm>
        </p:grpSpPr>
        <p:pic>
          <p:nvPicPr>
            <p:cNvPr id="609" name="Rectangle 9" descr=""/>
            <p:cNvPicPr/>
            <p:nvPr/>
          </p:nvPicPr>
          <p:blipFill>
            <a:blip r:embed="rId3"/>
            <a:stretch/>
          </p:blipFill>
          <p:spPr>
            <a:xfrm>
              <a:off x="1401840" y="1749600"/>
              <a:ext cx="6199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1430280" y="1781280"/>
              <a:ext cx="61498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 Black"/>
                </a:rPr>
                <a:t>Andy</a:t>
              </a:r>
              <a:endParaRPr b="0" lang="en-US" sz="32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611" name="Rectangle 2" descr=""/>
          <p:cNvPicPr/>
          <p:nvPr/>
        </p:nvPicPr>
        <p:blipFill>
          <a:blip r:embed="rId4"/>
          <a:stretch/>
        </p:blipFill>
        <p:spPr>
          <a:xfrm>
            <a:off x="334800" y="609480"/>
            <a:ext cx="74502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995280" y="2457360"/>
            <a:ext cx="4367160" cy="3500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eam Work -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st Task/Worst Task –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we could improve nex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ffff00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st enjoyabl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j0311786"/>
          <p:cNvPicPr/>
          <p:nvPr/>
        </p:nvPicPr>
        <p:blipFill>
          <a:blip r:embed="rId1"/>
          <a:stretch/>
        </p:blipFill>
        <p:spPr>
          <a:xfrm>
            <a:off x="431640" y="1305000"/>
            <a:ext cx="3276720" cy="4032000"/>
          </a:xfrm>
          <a:prstGeom prst="rect">
            <a:avLst/>
          </a:prstGeom>
          <a:ln w="0">
            <a:noFill/>
          </a:ln>
        </p:spPr>
      </p:pic>
      <p:sp>
        <p:nvSpPr>
          <p:cNvPr id="716" name="AutoShape 14"/>
          <p:cNvSpPr/>
          <p:nvPr/>
        </p:nvSpPr>
        <p:spPr>
          <a:xfrm>
            <a:off x="3924360" y="765000"/>
            <a:ext cx="4535280" cy="1584360"/>
          </a:xfrm>
          <a:custGeom>
            <a:avLst/>
            <a:gdLst>
              <a:gd name="textAreaLeft" fmla="*/ 0 w 4535280"/>
              <a:gd name="textAreaRight" fmla="*/ 4535280 w 453528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Review to Improve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814320" y="4073400"/>
            <a:ext cx="76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Thank You for Taking Par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719" name="Picture 6" descr=""/>
          <p:cNvPicPr/>
          <p:nvPr/>
        </p:nvPicPr>
        <p:blipFill>
          <a:blip r:embed="rId1"/>
          <a:stretch/>
        </p:blipFill>
        <p:spPr>
          <a:xfrm>
            <a:off x="2016000" y="1308240"/>
            <a:ext cx="5067360" cy="23810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thank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Rectangle 2" descr=""/>
          <p:cNvPicPr/>
          <p:nvPr/>
        </p:nvPicPr>
        <p:blipFill>
          <a:blip r:embed="rId1"/>
          <a:stretch/>
        </p:blipFill>
        <p:spPr>
          <a:xfrm>
            <a:off x="92160" y="-6480"/>
            <a:ext cx="8601120" cy="21891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2"/>
          <a:stretch/>
        </p:blipFill>
        <p:spPr>
          <a:xfrm>
            <a:off x="2311560" y="2676600"/>
            <a:ext cx="3706560" cy="35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18" descr=""/>
          <p:cNvPicPr/>
          <p:nvPr/>
        </p:nvPicPr>
        <p:blipFill>
          <a:blip r:embed="rId1"/>
          <a:stretch/>
        </p:blipFill>
        <p:spPr>
          <a:xfrm>
            <a:off x="262080" y="390600"/>
            <a:ext cx="8626320" cy="4651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5" descr="StarTrek_starship_Enterprise_NCC1701A_firing_phasers_freecomputerdesktop_wallpaper_1024"/>
          <p:cNvPicPr/>
          <p:nvPr/>
        </p:nvPicPr>
        <p:blipFill>
          <a:blip r:embed="rId2"/>
          <a:stretch/>
        </p:blipFill>
        <p:spPr>
          <a:xfrm>
            <a:off x="-216000" y="0"/>
            <a:ext cx="97092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18"/>
          <p:cNvSpPr/>
          <p:nvPr/>
        </p:nvSpPr>
        <p:spPr>
          <a:xfrm>
            <a:off x="216000" y="349200"/>
            <a:ext cx="859464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Ultra Serif SF"/>
              </a:rPr>
              <a:t>“</a:t>
            </a:r>
            <a:r>
              <a:rPr b="0" lang="en-GB" sz="4800" spc="-1" strike="noStrike">
                <a:solidFill>
                  <a:srgbClr val="ffff00"/>
                </a:solidFill>
                <a:latin typeface="Rockwell Extra Bold"/>
              </a:rPr>
              <a:t>To </a:t>
            </a:r>
            <a:r>
              <a:rPr b="0" lang="en-GB" sz="6000" spc="-1" strike="noStrike">
                <a:solidFill>
                  <a:srgbClr val="ffff00"/>
                </a:solidFill>
                <a:latin typeface="Rockwell Extra Bold"/>
              </a:rPr>
              <a:t>boldly</a:t>
            </a:r>
            <a:r>
              <a:rPr b="0" lang="en-GB" sz="4800" spc="-1" strike="noStrike">
                <a:solidFill>
                  <a:srgbClr val="ffff00"/>
                </a:solidFill>
                <a:latin typeface="Rockwell Extra Bold"/>
              </a:rPr>
              <a:t> go where no one has gone before</a:t>
            </a:r>
            <a:r>
              <a:rPr b="0" lang="en-GB" sz="4800" spc="-1" strike="noStrike">
                <a:solidFill>
                  <a:srgbClr val="ffff00"/>
                </a:solidFill>
                <a:latin typeface="Ultra Serif SF"/>
              </a:rPr>
              <a:t>”</a:t>
            </a:r>
            <a:endParaRPr b="0" lang="en-US" sz="48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2" descr="C:\Documents and Settings\Andy Robertson\Local Settings\Temporary Internet Files\Content.IE5\00Z75JV2\MPj04389310000[1].jpg"/>
          <p:cNvPicPr/>
          <p:nvPr/>
        </p:nvPicPr>
        <p:blipFill>
          <a:blip r:embed="rId1"/>
          <a:stretch/>
        </p:blipFill>
        <p:spPr>
          <a:xfrm>
            <a:off x="1371600" y="1136520"/>
            <a:ext cx="6400800" cy="45849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C:\Documents and Settings\Andy Robertson\Local Settings\Temporary Internet Files\Content.IE5\00Z75JV2\MPj04389310000[1].jpg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-1812960" y="0"/>
            <a:ext cx="109569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9" name="Rectangle 9"/>
          <p:cNvGrpSpPr/>
          <p:nvPr/>
        </p:nvGrpSpPr>
        <p:grpSpPr>
          <a:xfrm>
            <a:off x="701640" y="1768320"/>
            <a:ext cx="7851960" cy="1090800"/>
            <a:chOff x="701640" y="1768320"/>
            <a:chExt cx="7851960" cy="1090800"/>
          </a:xfrm>
        </p:grpSpPr>
        <p:pic>
          <p:nvPicPr>
            <p:cNvPr id="620" name="Rectangle 9" descr=""/>
            <p:cNvPicPr/>
            <p:nvPr/>
          </p:nvPicPr>
          <p:blipFill>
            <a:blip r:embed="rId3"/>
            <a:stretch/>
          </p:blipFill>
          <p:spPr>
            <a:xfrm>
              <a:off x="701640" y="1768320"/>
              <a:ext cx="78519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731880" y="1797120"/>
              <a:ext cx="77976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 readiness to start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new ventures</a:t>
              </a:r>
              <a:r>
                <a:rPr b="0" lang="en-GB" sz="4400" spc="-1" strike="noStrike">
                  <a:solidFill>
                    <a:srgbClr val="ffffff"/>
                  </a:solidFill>
                  <a:latin typeface="Arial Black"/>
                </a:rPr>
                <a:t>.</a:t>
              </a:r>
              <a:endParaRPr b="0" lang="en-US" sz="4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grpSp>
        <p:nvGrpSpPr>
          <p:cNvPr id="622" name="Rectangle 6"/>
          <p:cNvGrpSpPr/>
          <p:nvPr/>
        </p:nvGrpSpPr>
        <p:grpSpPr>
          <a:xfrm>
            <a:off x="450720" y="3035160"/>
            <a:ext cx="8255160" cy="1974960"/>
            <a:chOff x="450720" y="3035160"/>
            <a:chExt cx="8255160" cy="1974960"/>
          </a:xfrm>
        </p:grpSpPr>
        <p:pic>
          <p:nvPicPr>
            <p:cNvPr id="623" name="Rectangle 6" descr=""/>
            <p:cNvPicPr/>
            <p:nvPr/>
          </p:nvPicPr>
          <p:blipFill>
            <a:blip r:embed="rId4"/>
            <a:stretch/>
          </p:blipFill>
          <p:spPr>
            <a:xfrm>
              <a:off x="450720" y="3035160"/>
              <a:ext cx="82551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82760" y="3067200"/>
              <a:ext cx="819612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An organisation created for business ventures;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"a growing enterprise must have a </a:t>
              </a:r>
              <a:r>
                <a:rPr b="0" lang="en-GB" sz="3600" spc="-1" strike="noStrike">
                  <a:solidFill>
                    <a:srgbClr val="ffffff"/>
                  </a:solidFill>
                  <a:latin typeface="Arial Black"/>
                </a:rPr>
                <a:t>bold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 leader"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  <p:pic>
        <p:nvPicPr>
          <p:cNvPr id="625" name="Rectangle 2" descr=""/>
          <p:cNvPicPr/>
          <p:nvPr/>
        </p:nvPicPr>
        <p:blipFill>
          <a:blip r:embed="rId5"/>
          <a:stretch/>
        </p:blipFill>
        <p:spPr>
          <a:xfrm>
            <a:off x="2719440" y="853920"/>
            <a:ext cx="7472160" cy="9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27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28" name="Rectangle 11"/>
          <p:cNvGrpSpPr/>
          <p:nvPr/>
        </p:nvGrpSpPr>
        <p:grpSpPr>
          <a:xfrm>
            <a:off x="3749760" y="3151080"/>
            <a:ext cx="3004920" cy="2994120"/>
            <a:chOff x="3749760" y="3151080"/>
            <a:chExt cx="3004920" cy="2994120"/>
          </a:xfrm>
        </p:grpSpPr>
        <p:pic>
          <p:nvPicPr>
            <p:cNvPr id="629" name="Rectangle 11" descr=""/>
            <p:cNvPicPr/>
            <p:nvPr/>
          </p:nvPicPr>
          <p:blipFill>
            <a:blip r:embed="rId3"/>
            <a:stretch/>
          </p:blipFill>
          <p:spPr>
            <a:xfrm>
              <a:off x="3749760" y="3151080"/>
              <a:ext cx="30049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763800" y="3166920"/>
              <a:ext cx="2980080" cy="29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I enjoy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getting into new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situations where I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don’t know how things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will turn out.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32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33" name="Rectangle 4"/>
          <p:cNvGrpSpPr/>
          <p:nvPr/>
        </p:nvGrpSpPr>
        <p:grpSpPr>
          <a:xfrm>
            <a:off x="3535200" y="2809800"/>
            <a:ext cx="3206880" cy="3194280"/>
            <a:chOff x="3535200" y="2809800"/>
            <a:chExt cx="3206880" cy="3194280"/>
          </a:xfrm>
        </p:grpSpPr>
        <p:pic>
          <p:nvPicPr>
            <p:cNvPr id="634" name="Rectangle 4" descr=""/>
            <p:cNvPicPr/>
            <p:nvPr/>
          </p:nvPicPr>
          <p:blipFill>
            <a:blip r:embed="rId3"/>
            <a:stretch/>
          </p:blipFill>
          <p:spPr>
            <a:xfrm>
              <a:off x="3535200" y="2809800"/>
              <a:ext cx="320688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rot="21361200">
              <a:off x="3650760" y="29253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like to act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on impulse!.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37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38" name="Rectangle 4"/>
          <p:cNvGrpSpPr/>
          <p:nvPr/>
        </p:nvGrpSpPr>
        <p:grpSpPr>
          <a:xfrm>
            <a:off x="3681360" y="2955960"/>
            <a:ext cx="3164040" cy="3146400"/>
            <a:chOff x="3681360" y="2955960"/>
            <a:chExt cx="3164040" cy="3146400"/>
          </a:xfrm>
        </p:grpSpPr>
        <p:pic>
          <p:nvPicPr>
            <p:cNvPr id="639" name="Rectangle 4" descr=""/>
            <p:cNvPicPr/>
            <p:nvPr/>
          </p:nvPicPr>
          <p:blipFill>
            <a:blip r:embed="rId3"/>
            <a:stretch/>
          </p:blipFill>
          <p:spPr>
            <a:xfrm>
              <a:off x="3681360" y="2955960"/>
              <a:ext cx="3164040" cy="31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 rot="21418200">
              <a:off x="3777840" y="3047760"/>
              <a:ext cx="297972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I enjoy trying </a:t>
              </a:r>
              <a:endParaRPr b="0" lang="en-US" sz="4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 Black"/>
                </a:rPr>
                <a:t>new things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endParaRPr b="0" lang="en-US" sz="24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C:\Documents and Settings\Andy Robertson\My Documents\My Pictures\Microsoft Clip Organizer\j0403640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-249120"/>
            <a:ext cx="9144000" cy="7107120"/>
          </a:xfrm>
          <a:prstGeom prst="rect">
            <a:avLst/>
          </a:prstGeom>
          <a:ln w="0">
            <a:noFill/>
          </a:ln>
        </p:spPr>
      </p:pic>
      <p:pic>
        <p:nvPicPr>
          <p:cNvPr id="642" name="Rectangle 2" descr=""/>
          <p:cNvPicPr/>
          <p:nvPr/>
        </p:nvPicPr>
        <p:blipFill>
          <a:blip r:embed="rId2"/>
          <a:stretch/>
        </p:blipFill>
        <p:spPr>
          <a:xfrm>
            <a:off x="579600" y="-237960"/>
            <a:ext cx="74674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43" name="Rectangle 4"/>
          <p:cNvGrpSpPr/>
          <p:nvPr/>
        </p:nvGrpSpPr>
        <p:grpSpPr>
          <a:xfrm>
            <a:off x="3700440" y="2895480"/>
            <a:ext cx="3213000" cy="3194280"/>
            <a:chOff x="3700440" y="2895480"/>
            <a:chExt cx="3213000" cy="3194280"/>
          </a:xfrm>
        </p:grpSpPr>
        <p:pic>
          <p:nvPicPr>
            <p:cNvPr id="644" name="Rectangle 4" descr=""/>
            <p:cNvPicPr/>
            <p:nvPr/>
          </p:nvPicPr>
          <p:blipFill>
            <a:blip r:embed="rId3"/>
            <a:stretch/>
          </p:blipFill>
          <p:spPr>
            <a:xfrm>
              <a:off x="3700440" y="2895480"/>
              <a:ext cx="3213000" cy="31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21355800">
              <a:off x="3817440" y="3013200"/>
              <a:ext cx="29782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I am a creative 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0000"/>
                  </a:solidFill>
                  <a:latin typeface="Arial Black"/>
                </a:rPr>
                <a:t>problem solver</a:t>
              </a:r>
              <a:endParaRPr b="0" lang="en-US" sz="3600" spc="-1" strike="noStrike">
                <a:solidFill>
                  <a:srgbClr val="ff3300"/>
                </a:solidFill>
                <a:latin typeface="Tahoma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9:40:38Z</dcterms:created>
  <dc:creator>Wyedean School</dc:creator>
  <dc:description/>
  <dc:language>en-US</dc:language>
  <cp:lastModifiedBy> </cp:lastModifiedBy>
  <dcterms:modified xsi:type="dcterms:W3CDTF">2010-08-10T15:06:59Z</dcterms:modified>
  <cp:revision>76</cp:revision>
  <dc:subject/>
  <dc:title>Work Related Learning Village</dc:title>
</cp:coreProperties>
</file>